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A35D-2C10-4887-A0AC-505DC80A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F2DE-9DCD-4238-AD6B-C895E84C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46C-1B05-4FD5-8EF9-F6489F38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7DA8-6580-4DC0-916E-AE6CAFAB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3DC2-38FA-48AA-A613-F0923580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5D9F-FFD5-4C2A-ABBC-E537A42E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95D2-39BF-41A2-BB46-6737BDCD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AD10-2527-47D3-8E3B-9F0DD823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E7F4-ED62-4D96-8F32-6D320E31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C675-E3B1-4414-90B5-4B1CD3A1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AC0C-D3A2-4426-9025-860BDACE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1F82-DD0C-4038-9BE1-12FBCF53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55D2-7BCA-4605-BA47-F760B63F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630F-D482-49E0-BA3E-0BB8C235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67DF-403E-48E5-ABD5-10648553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70BA-E9B4-4EE0-B122-9CFC13121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3B9A-B038-487F-B22A-DC4A5B5E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3E35-2D2C-4676-A4C8-A2D6CAA4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13A3-2518-4F1C-AB72-5FB9C1C4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208F-4E32-4ACE-B272-53B6F0B2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FB62-81E9-4042-8A35-173984D3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0BA6-22E0-4260-BB6C-197BA214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69AE-CC5A-4063-AE06-C172F1A6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8BA1-DD21-41F1-A411-7D089061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1980-8D4A-49D5-830F-0643EC197D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1174-B92F-439E-A95F-A066BAB22B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art%2016%20-%20CM.ppt" TargetMode="External"/><Relationship Id="rId2" Type="http://schemas.openxmlformats.org/officeDocument/2006/relationships/hyperlink" Target="file:///art%2015%20-%20CM.ppt" TargetMode="External"/><Relationship Id="rId3" Type="http://schemas.openxmlformats.org/officeDocument/2006/relationships/hyperlink" Target="file:///art%2022%20-%20CM.ppt" TargetMode="External"/><Relationship Id="rId4" Type="http://schemas.openxmlformats.org/officeDocument/2006/relationships/hyperlink" Target="file:///art%2022%20-%20CM.ppt" TargetMode="External"/><Relationship Id="rId5" Type="http://schemas.openxmlformats.org/officeDocument/2006/relationships/hyperlink" Target="file:///art%2022%20-%20CM.ppt" TargetMode="External"/><Relationship Id="rId6" Type="http://schemas.openxmlformats.org/officeDocument/2006/relationships/hyperlink" Target="file:///art%2022%20-%20CM.ppt" TargetMode="External"/><Relationship Id="rId7" Type="http://schemas.openxmlformats.org/officeDocument/2006/relationships/hyperlink" Target="file:///art%2022%20-%20CM.ppt" TargetMode="External"/><Relationship Id="rId8" Type="http://schemas.openxmlformats.org/officeDocument/2006/relationships/hyperlink" Target="file:///art%2022%20-%20CM.ppt" TargetMode="External"/><Relationship Id="rId9" Type="http://schemas.openxmlformats.org/officeDocument/2006/relationships/hyperlink" Target="file:///art%2022%20-%20CM.ppt" TargetMode="External"/><Relationship Id="rId10" Type="http://schemas.openxmlformats.org/officeDocument/2006/relationships/hyperlink" Target="file:///art%2022%20-%20CM.ppt" TargetMode="External"/><Relationship Id="rId11" Type="http://schemas.openxmlformats.org/officeDocument/2006/relationships/hyperlink" Target="file:///art%2022%20-%20CM.ppt" TargetMode="External"/><Relationship Id="rId12" Type="http://schemas.openxmlformats.org/officeDocument/2006/relationships/hyperlink" Target="file:///art%2022%20-%20CM.ppt" TargetMode="External"/><Relationship Id="rId13" Type="http://schemas.openxmlformats.org/officeDocument/2006/relationships/hyperlink" Target="file:///art%2022%20-%20CM.ppt" TargetMode="External"/><Relationship Id="rId14" Type="http://schemas.openxmlformats.org/officeDocument/2006/relationships/hyperlink" Target="file:///art%2030%20-%20CM.ppt" TargetMode="External"/><Relationship Id="rId15" Type="http://schemas.openxmlformats.org/officeDocument/2006/relationships/hyperlink" Target="file:///art%2023%20-%20CM.ppt" TargetMode="External"/><Relationship Id="rId16" Type="http://schemas.openxmlformats.org/officeDocument/2006/relationships/hyperlink" Target="file:///art%2030%20-%20CM.ppt" TargetMode="External"/><Relationship Id="rId17" Type="http://schemas.openxmlformats.org/officeDocument/2006/relationships/hyperlink" Target="file:///art%2023%20-%20CM.ppt" TargetMode="External"/><Relationship Id="rId18" Type="http://schemas.openxmlformats.org/officeDocument/2006/relationships/hyperlink" Target="file:///art%2023%20-%20CM.ppt" TargetMode="External"/><Relationship Id="rId19" Type="http://schemas.openxmlformats.org/officeDocument/2006/relationships/hyperlink" Target="file:///art%2023%20-%20CM.ppt" TargetMode="External"/><Relationship Id="rId20" Type="http://schemas.openxmlformats.org/officeDocument/2006/relationships/hyperlink" Target="file:///art%2030%20-%20CM.ppt" TargetMode="External"/><Relationship Id="rId21" Type="http://schemas.openxmlformats.org/officeDocument/2006/relationships/hyperlink" Target="file:///art%2031%20-%20CM.ppt" TargetMode="External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57600" y="533520"/>
            <a:ext cx="171468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RI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PESQUIS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"/>
              </a:rPr>
              <a:t>Art. 16, C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447920"/>
            <a:ext cx="1942920" cy="914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ORGA DO ALVARÁ PELO DIRETOR-GERAL DO DN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2"/>
              </a:rPr>
              <a:t>Art.15 C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1371600"/>
            <a:ext cx="2857680" cy="1143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ZO DO ALVARÁ PODE SER DE ATÉ 03 ANOS PRORROGÁVEIS POR IGUAL PERÍO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3"/>
              </a:rPr>
              <a:t>Art. 22,</a:t>
            </a: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4"/>
              </a:rPr>
              <a:t> inciso</a:t>
            </a: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5"/>
              </a:rPr>
              <a:t> III C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2971800"/>
            <a:ext cx="2286000" cy="914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DO RELATÓRIO FINAL DE PESQUIS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6"/>
              </a:rPr>
              <a:t>Art. 22 ,</a:t>
            </a: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7"/>
              </a:rPr>
              <a:t> inciso</a:t>
            </a: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8"/>
              </a:rPr>
              <a:t> V C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9"/>
              </a:rPr>
              <a:t>Art. 22 § 2° (</a:t>
            </a: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0"/>
              </a:rPr>
              <a:t> guia</a:t>
            </a: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1"/>
              </a:rPr>
              <a:t> de</a:t>
            </a: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2"/>
              </a:rPr>
              <a:t> utilização</a:t>
            </a: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3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1371600"/>
            <a:ext cx="2590920" cy="1028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ÁLISE PELO DNPM PREENCHIDOS OS REQUISITOS LEGAIS O INTERESSADO OBTÉM O DIREITO DE PRIORIDA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72400" y="3048120"/>
            <a:ext cx="12193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O ARQUIV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4"/>
              </a:rPr>
              <a:t>Art. 30, II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2971800"/>
            <a:ext cx="1600200" cy="914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ÓRIO NEGATIVO OU NÃO APROV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5"/>
              </a:rPr>
              <a:t>Art. 23, inciso II e II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6"/>
              </a:rPr>
              <a:t>Art. 30, I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3048120"/>
            <a:ext cx="125748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ÓRIO POSITIV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7"/>
              </a:rPr>
              <a:t>Art. 23</a:t>
            </a: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8"/>
              </a:rPr>
              <a:t> inciso</a:t>
            </a: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9"/>
              </a:rPr>
              <a:t> I, C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2971800"/>
            <a:ext cx="1143000" cy="800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PM APROVA RELATÓR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20"/>
              </a:rPr>
              <a:t>Art. 30, § 3° C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4038480"/>
            <a:ext cx="339084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RIMENTO DE LAV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38 C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267080"/>
            <a:ext cx="2400120" cy="1028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RESA TEM UM ANO PARA REQUERER A LAVRA. PRAZO PRORROGÁVEL POR IGUAL PERÍO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21"/>
              </a:rPr>
              <a:t>Art. 31, C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638680"/>
            <a:ext cx="2857320" cy="1028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M DO PRAZO SEM REQUERIMENTO DE CONCESSÃO. CADUCIDADE DO DIREITO DE REQUERER.  ÁREA EM DISPONIBILIDA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5638680"/>
            <a:ext cx="3390840" cy="1219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STRO DE MINAS E ENERGIA OUTORGA PORTARIA DE LAVRA POR PRAZO INDETERMIN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43 C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6° e 7°, Resolução CONAMA n° 009/9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16 da Lei n° 7.805/89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4648320"/>
            <a:ext cx="3429000" cy="7999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PM ANALISA PLANO DE APROVEITAMENTO ECONÔMICO E PREPARA MINUTA DE PORTA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39  C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GIME DE AUTORIZAÇÃO E CONCESS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1905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1905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467480" y="2514600"/>
            <a:ext cx="0" cy="15228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419720" y="26668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4380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048120" y="3429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447920" y="3352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581280" y="4267080"/>
            <a:ext cx="198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1520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3733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295280" y="838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838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21:59:55Z</dcterms:created>
  <dc:creator>Alexandre Braule</dc:creator>
  <dc:description/>
  <dc:language>en-US</dc:language>
  <cp:lastModifiedBy>Alexandre Braule</cp:lastModifiedBy>
  <dcterms:modified xsi:type="dcterms:W3CDTF">2004-08-11T14:23:23Z</dcterms:modified>
  <cp:revision>96</cp:revision>
  <dc:subject/>
  <dc:title>Apresentação do PowerPoint</dc:title>
</cp:coreProperties>
</file>